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06B0-04D8-413D-A20C-99A86217D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14C2-C164-4239-B71E-9128BE94F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B93C-FD7C-444D-B7E9-C41B932F1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1B8B-01FD-42B6-9610-ACC4C5020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1F20-09B8-4451-9DCF-17523433D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F337-36BF-467B-A156-178D2A40E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E135-1E63-4917-99C0-E1BD7C037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6D7D-E1BC-4A2A-8F36-90ABB7BE6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96F5-E048-4EA6-A877-39F3BAE1D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EADC-CEC8-4C31-B81F-88F0E91B7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B697-0FBF-4B8D-9557-40ED721A8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8AE0-38D9-4413-979F-D53E9A713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86F9B-E16D-4D45-8E90-5DEB8FA829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700200"/>
            <a:ext cx="7391520" cy="5400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20800" y="189000"/>
            <a:ext cx="100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urce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00120" y="380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32080" y="126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lter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228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24240" y="184320"/>
            <a:ext cx="11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71800" y="388800"/>
            <a:ext cx="0" cy="52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24120" y="184320"/>
            <a:ext cx="1024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r Char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380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91520" y="18432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iew Configuration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29440" y="380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534520" y="19494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D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7695720" y="2057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00" y="730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oad/Save Data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61840" y="990720"/>
            <a:ext cx="24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00" y="117468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on Filters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1568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ipeline Brows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6200" y="1752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3244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bject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4844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640080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readshee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809880" y="5714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29400" y="640080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Y Plo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010280" y="56383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18:26:05Z</dcterms:created>
  <dc:creator> Amy Squillacote</dc:creator>
  <dc:description/>
  <dc:language>en-US</dc:language>
  <cp:lastModifiedBy> Amy Squillacote</cp:lastModifiedBy>
  <dcterms:modified xsi:type="dcterms:W3CDTF">2007-08-23T18:58:56Z</dcterms:modified>
  <cp:revision>2</cp:revision>
  <dc:subject/>
  <dc:title>Slide 1</dc:title>
</cp:coreProperties>
</file>