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AB40-315A-461E-8319-00C34E29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3AD2-C9E5-4FE8-ADA8-9758EDC2E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7902-C298-481E-8EC7-05B6A8837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6801-E678-4930-AC6E-AEFE2933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36B7-EEA6-4650-96B5-B0D07F57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4A7B-766B-4E3C-960F-809C797D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C6A-5FF0-4CF8-A9AD-E6524459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DDB6-5CAF-40A0-BAE7-B62BEB13D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71D1-A035-436B-AA69-9CC1E93A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532-3912-4278-8CC3-89C5A6B2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F2C6-0975-4136-BE14-E5CC10A8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6D6-BBF7-4016-9F5F-3FD98976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C585-3F66-4BCA-BFCB-867B9F77BF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86000" y="223920"/>
            <a:ext cx="6372000" cy="639612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80960" y="233280"/>
            <a:ext cx="3525840" cy="6375600"/>
          </a:xfrm>
          <a:custGeom>
            <a:avLst/>
            <a:gdLst/>
            <a:ahLst/>
            <a:rect l="l" t="t" r="r" b="b"/>
            <a:pathLst>
              <a:path w="2221" h="4016">
                <a:moveTo>
                  <a:pt x="0" y="4016"/>
                </a:moveTo>
                <a:lnTo>
                  <a:pt x="2010" y="0"/>
                </a:lnTo>
                <a:lnTo>
                  <a:pt x="2221" y="2114"/>
                </a:lnTo>
                <a:lnTo>
                  <a:pt x="0" y="401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68760" y="243000"/>
            <a:ext cx="3194280" cy="6365880"/>
          </a:xfrm>
          <a:custGeom>
            <a:avLst/>
            <a:gdLst/>
            <a:ahLst/>
            <a:rect l="l" t="t" r="r" b="b"/>
            <a:pathLst>
              <a:path w="2012" h="4010">
                <a:moveTo>
                  <a:pt x="0" y="0"/>
                </a:moveTo>
                <a:lnTo>
                  <a:pt x="2012" y="4010"/>
                </a:lnTo>
                <a:lnTo>
                  <a:pt x="299" y="3322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62240" y="4857840"/>
            <a:ext cx="6400800" cy="1762200"/>
          </a:xfrm>
          <a:custGeom>
            <a:avLst/>
            <a:gdLst/>
            <a:ahLst/>
            <a:rect l="l" t="t" r="r" b="b"/>
            <a:pathLst>
              <a:path w="4032" h="1110">
                <a:moveTo>
                  <a:pt x="4032" y="1103"/>
                </a:moveTo>
                <a:lnTo>
                  <a:pt x="0" y="1110"/>
                </a:lnTo>
                <a:lnTo>
                  <a:pt x="1291" y="0"/>
                </a:lnTo>
                <a:lnTo>
                  <a:pt x="4032" y="1103"/>
                </a:lnTo>
                <a:close/>
              </a:path>
            </a:pathLst>
          </a:cu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7:57:30Z</dcterms:created>
  <dc:creator>William J. Schroeder</dc:creator>
  <dc:description/>
  <dc:language>en-US</dc:language>
  <cp:lastModifiedBy>William J. Schroeder</cp:lastModifiedBy>
  <dcterms:modified xsi:type="dcterms:W3CDTF">2001-06-01T18:36:04Z</dcterms:modified>
  <cp:revision>1</cp:revision>
  <dc:subject/>
  <dc:title>PowerPoint Presentation</dc:title>
</cp:coreProperties>
</file>