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E5E2-4175-446C-9D2A-893849140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8E0D-7388-4BAB-8697-D50F8C6DD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AFE2-CB0D-4019-8FDE-04A95C0AC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5405-A289-48A9-993F-2FE42F769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0824-86A0-45BA-B0AC-1653393C5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777A-40C0-4AB3-8993-071B8C593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13D3-6B68-4F02-A927-3B473A996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43AF-2A37-4543-AAF8-E4F505EC1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4D17-3ABC-49BC-9C62-61C9A0E2D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4859-D0A4-434A-9E1D-076AEBE6F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249A-498C-4832-8E3D-827AE33C7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89E5-AC9F-40BC-938A-CADF118CB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7FBF1-637F-42B8-81F0-2C3EC43E8C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86000" y="223920"/>
            <a:ext cx="6372000" cy="6396120"/>
          </a:xfrm>
          <a:prstGeom prst="triangle">
            <a:avLst>
              <a:gd name="adj" fmla="val 50000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380960" y="233280"/>
            <a:ext cx="3525840" cy="6375600"/>
          </a:xfrm>
          <a:custGeom>
            <a:avLst/>
            <a:gdLst/>
            <a:ahLst/>
            <a:rect l="l" t="t" r="r" b="b"/>
            <a:pathLst>
              <a:path w="2221" h="4016">
                <a:moveTo>
                  <a:pt x="0" y="4016"/>
                </a:moveTo>
                <a:lnTo>
                  <a:pt x="2010" y="0"/>
                </a:lnTo>
                <a:lnTo>
                  <a:pt x="2221" y="2114"/>
                </a:lnTo>
                <a:lnTo>
                  <a:pt x="0" y="401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68760" y="243000"/>
            <a:ext cx="3194280" cy="6365880"/>
          </a:xfrm>
          <a:custGeom>
            <a:avLst/>
            <a:gdLst/>
            <a:ahLst/>
            <a:rect l="l" t="t" r="r" b="b"/>
            <a:pathLst>
              <a:path w="2012" h="4010">
                <a:moveTo>
                  <a:pt x="0" y="0"/>
                </a:moveTo>
                <a:lnTo>
                  <a:pt x="2012" y="4010"/>
                </a:lnTo>
                <a:lnTo>
                  <a:pt x="299" y="3322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62240" y="4857840"/>
            <a:ext cx="6400800" cy="1762200"/>
          </a:xfrm>
          <a:custGeom>
            <a:avLst/>
            <a:gdLst/>
            <a:ahLst/>
            <a:rect l="l" t="t" r="r" b="b"/>
            <a:pathLst>
              <a:path w="4032" h="1110">
                <a:moveTo>
                  <a:pt x="4032" y="1103"/>
                </a:moveTo>
                <a:lnTo>
                  <a:pt x="0" y="1110"/>
                </a:lnTo>
                <a:lnTo>
                  <a:pt x="1291" y="0"/>
                </a:lnTo>
                <a:lnTo>
                  <a:pt x="4032" y="1103"/>
                </a:lnTo>
                <a:close/>
              </a:path>
            </a:pathLst>
          </a:cu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1T17:57:30Z</dcterms:created>
  <dc:creator>William J. Schroeder</dc:creator>
  <dc:description/>
  <dc:language>en-US</dc:language>
  <cp:lastModifiedBy>William J. Schroeder</cp:lastModifiedBy>
  <dcterms:modified xsi:type="dcterms:W3CDTF">2001-06-01T18:36:04Z</dcterms:modified>
  <cp:revision>1</cp:revision>
  <dc:subject/>
  <dc:title>PowerPoint Presentation</dc:title>
</cp:coreProperties>
</file>