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BD63A-E27A-4B7E-9C31-A8458C33B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CFCA5-9D82-4FD0-9E43-38FC2AFFB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A2AEB-13F7-48D3-A9C0-161FC7E02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86DC0-AC3B-4B50-A257-980213513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126F2-7402-4935-B1B2-E5FC0CE35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ECF92-6D11-4D02-B164-2F06BAB56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8B02A-D3F4-49A5-9D1A-DD39C39D1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2D357-5D9F-4A70-A46D-788E08997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621F6-BB20-4568-B8FA-23D77EF74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AA5FB-E4D5-4F1B-A401-387ECD462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3EE9E-C37C-4EA6-8A8F-E226A9393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37147-D128-4155-AD86-C5ABD586A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DEB35-6A44-4DB8-9D45-D01F7C5ED6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86000" y="223920"/>
            <a:ext cx="6372000" cy="6396120"/>
          </a:xfrm>
          <a:prstGeom prst="triangle">
            <a:avLst>
              <a:gd name="adj" fmla="val 50000"/>
            </a:avLst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380960" y="233280"/>
            <a:ext cx="3525840" cy="6375600"/>
          </a:xfrm>
          <a:custGeom>
            <a:avLst/>
            <a:gdLst/>
            <a:ahLst/>
            <a:rect l="l" t="t" r="r" b="b"/>
            <a:pathLst>
              <a:path w="2221" h="4016">
                <a:moveTo>
                  <a:pt x="0" y="4016"/>
                </a:moveTo>
                <a:lnTo>
                  <a:pt x="2010" y="0"/>
                </a:lnTo>
                <a:lnTo>
                  <a:pt x="2221" y="2114"/>
                </a:lnTo>
                <a:lnTo>
                  <a:pt x="0" y="401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568760" y="243000"/>
            <a:ext cx="3194280" cy="6365880"/>
          </a:xfrm>
          <a:custGeom>
            <a:avLst/>
            <a:gdLst/>
            <a:ahLst/>
            <a:rect l="l" t="t" r="r" b="b"/>
            <a:pathLst>
              <a:path w="2012" h="4010">
                <a:moveTo>
                  <a:pt x="0" y="0"/>
                </a:moveTo>
                <a:lnTo>
                  <a:pt x="2012" y="4010"/>
                </a:lnTo>
                <a:lnTo>
                  <a:pt x="299" y="3322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62240" y="4857840"/>
            <a:ext cx="6400800" cy="1762200"/>
          </a:xfrm>
          <a:custGeom>
            <a:avLst/>
            <a:gdLst/>
            <a:ahLst/>
            <a:rect l="l" t="t" r="r" b="b"/>
            <a:pathLst>
              <a:path w="4032" h="1110">
                <a:moveTo>
                  <a:pt x="4032" y="1103"/>
                </a:moveTo>
                <a:lnTo>
                  <a:pt x="0" y="1110"/>
                </a:lnTo>
                <a:lnTo>
                  <a:pt x="1291" y="0"/>
                </a:lnTo>
                <a:lnTo>
                  <a:pt x="4032" y="1103"/>
                </a:lnTo>
                <a:close/>
              </a:path>
            </a:pathLst>
          </a:cu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01T17:57:30Z</dcterms:created>
  <dc:creator>William J. Schroeder</dc:creator>
  <dc:description/>
  <dc:language>en-US</dc:language>
  <cp:lastModifiedBy>William J. Schroeder</cp:lastModifiedBy>
  <dcterms:modified xsi:type="dcterms:W3CDTF">2001-06-01T18:36:04Z</dcterms:modified>
  <cp:revision>1</cp:revision>
  <dc:subject/>
  <dc:title>PowerPoint Presentation</dc:title>
</cp:coreProperties>
</file>