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ED31-94D2-4A55-A586-358E03D60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16DA-A434-4960-BFC3-EB2D6723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C1EA-68F1-456E-9293-6936A590C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2C9A-3096-4A74-9F62-9D0F3A186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E656-7E4B-4218-8F53-869FA3E1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4757-88C9-4A9D-BF2D-949A6B1A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BC64-B66F-4E8D-AD66-1A3C010B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2BBF-1B22-4B10-8263-2C4D89FF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D4CC-1408-4426-B778-B3EBBC1D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B8FE-B65A-46C4-9846-7BB8CC92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0CF3-342D-4BE8-B1A0-34876886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F8A0-238A-4C31-B10E-7B2951EF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A07A-2E99-4DF6-A617-26A68EDB9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86000" y="223920"/>
            <a:ext cx="6372000" cy="63961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80960" y="233280"/>
            <a:ext cx="3525840" cy="6375600"/>
          </a:xfrm>
          <a:custGeom>
            <a:avLst/>
            <a:gdLst/>
            <a:ahLst/>
            <a:rect l="l" t="t" r="r" b="b"/>
            <a:pathLst>
              <a:path w="2221" h="4016">
                <a:moveTo>
                  <a:pt x="0" y="4016"/>
                </a:moveTo>
                <a:lnTo>
                  <a:pt x="2010" y="0"/>
                </a:lnTo>
                <a:lnTo>
                  <a:pt x="2221" y="2114"/>
                </a:lnTo>
                <a:lnTo>
                  <a:pt x="0" y="401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68760" y="243000"/>
            <a:ext cx="3194280" cy="6365880"/>
          </a:xfrm>
          <a:custGeom>
            <a:avLst/>
            <a:gdLst/>
            <a:ahLst/>
            <a:rect l="l" t="t" r="r" b="b"/>
            <a:pathLst>
              <a:path w="2012" h="4010">
                <a:moveTo>
                  <a:pt x="0" y="0"/>
                </a:moveTo>
                <a:lnTo>
                  <a:pt x="2012" y="4010"/>
                </a:lnTo>
                <a:lnTo>
                  <a:pt x="299" y="3322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62240" y="4857840"/>
            <a:ext cx="6400800" cy="1762200"/>
          </a:xfrm>
          <a:custGeom>
            <a:avLst/>
            <a:gdLst/>
            <a:ahLst/>
            <a:rect l="l" t="t" r="r" b="b"/>
            <a:pathLst>
              <a:path w="4032" h="1110">
                <a:moveTo>
                  <a:pt x="4032" y="1103"/>
                </a:moveTo>
                <a:lnTo>
                  <a:pt x="0" y="1110"/>
                </a:lnTo>
                <a:lnTo>
                  <a:pt x="1291" y="0"/>
                </a:lnTo>
                <a:lnTo>
                  <a:pt x="4032" y="1103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7:57:30Z</dcterms:created>
  <dc:creator>William J. Schroeder</dc:creator>
  <dc:description/>
  <dc:language>en-US</dc:language>
  <cp:lastModifiedBy>William J. Schroeder</cp:lastModifiedBy>
  <dcterms:modified xsi:type="dcterms:W3CDTF">2001-06-01T18:36:04Z</dcterms:modified>
  <cp:revision>1</cp:revision>
  <dc:subject/>
  <dc:title>PowerPoint Presentation</dc:title>
</cp:coreProperties>
</file>