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8935-AB96-478A-9110-9BB897AE0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587F-CB56-4E94-8EF5-B507C9A48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A795-D129-4078-AAC9-F77AE2C7B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A3B7-C4A8-4029-935C-9058877AE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92CE-E7EC-47DD-BFC1-3BFFDBEA8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7B35-C05D-402C-8CA0-8FC0312F4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51F1-1DA7-4A8D-8E20-834A100A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BFD0-60E8-4125-AF1A-B74699955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F2C2-3C22-4B0E-AE01-848E6B322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8BA8-6A15-41CF-8F03-DFF3B6BF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C1D4-0236-4639-99E7-10E08542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0D27-62FE-4EB7-857E-2F12BD9F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87690-6085-4539-A407-8C62BA77BD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86000" y="223920"/>
            <a:ext cx="6372000" cy="639612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80960" y="233280"/>
            <a:ext cx="3525840" cy="6375600"/>
          </a:xfrm>
          <a:custGeom>
            <a:avLst/>
            <a:gdLst/>
            <a:ahLst/>
            <a:rect l="l" t="t" r="r" b="b"/>
            <a:pathLst>
              <a:path w="2221" h="4016">
                <a:moveTo>
                  <a:pt x="0" y="4016"/>
                </a:moveTo>
                <a:lnTo>
                  <a:pt x="2010" y="0"/>
                </a:lnTo>
                <a:lnTo>
                  <a:pt x="2221" y="2114"/>
                </a:lnTo>
                <a:lnTo>
                  <a:pt x="0" y="401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68760" y="243000"/>
            <a:ext cx="3194280" cy="6365880"/>
          </a:xfrm>
          <a:custGeom>
            <a:avLst/>
            <a:gdLst/>
            <a:ahLst/>
            <a:rect l="l" t="t" r="r" b="b"/>
            <a:pathLst>
              <a:path w="2012" h="4010">
                <a:moveTo>
                  <a:pt x="0" y="0"/>
                </a:moveTo>
                <a:lnTo>
                  <a:pt x="2012" y="4010"/>
                </a:lnTo>
                <a:lnTo>
                  <a:pt x="299" y="3322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62240" y="4857840"/>
            <a:ext cx="6400800" cy="1762200"/>
          </a:xfrm>
          <a:custGeom>
            <a:avLst/>
            <a:gdLst/>
            <a:ahLst/>
            <a:rect l="l" t="t" r="r" b="b"/>
            <a:pathLst>
              <a:path w="4032" h="1110">
                <a:moveTo>
                  <a:pt x="4032" y="1103"/>
                </a:moveTo>
                <a:lnTo>
                  <a:pt x="0" y="1110"/>
                </a:lnTo>
                <a:lnTo>
                  <a:pt x="1291" y="0"/>
                </a:lnTo>
                <a:lnTo>
                  <a:pt x="4032" y="1103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1T17:57:30Z</dcterms:created>
  <dc:creator>William J. Schroeder</dc:creator>
  <dc:description/>
  <dc:language>en-US</dc:language>
  <cp:lastModifiedBy>William J. Schroeder</cp:lastModifiedBy>
  <dcterms:modified xsi:type="dcterms:W3CDTF">2001-06-01T18:36:04Z</dcterms:modified>
  <cp:revision>1</cp:revision>
  <dc:subject/>
  <dc:title>PowerPoint Presentation</dc:title>
</cp:coreProperties>
</file>